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373B-35B5-4CF9-A281-E9EA60437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F318-EF05-4831-85F4-E56C5BBA8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484B-6D47-437D-84BD-B85198A3A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0DFA-CD45-4B2E-B7B2-785FF93BE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0E026-56CA-49BC-BC15-CD88D332B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DEBA8-BC64-46C7-877C-1FC83B5AE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D7843-A808-412C-AB6D-D5ADA7F78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E370-29D0-4086-9F24-35DEBEC70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2830E-3BEC-4AF6-B6AA-CF662CA6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B6993-1A69-4427-A8B8-C3BA3E18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ED77-2B05-4B27-A5F7-262B60B63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C9C8-D37F-405F-9B5A-258E030B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B59F7-C0F0-4106-8681-D644B1B9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6027D-5D13-46D2-9AAB-ECFA5753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35E92-9F36-4085-A463-9E69A2F3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53F75-EC02-4259-8BD0-CBF2E5478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FE814-9946-4B16-8153-A30B4F6A4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C081-EB5F-41E5-8458-7A07F93A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A75-1D4B-468E-952F-59CC6AD4F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0FFB-838A-4D5D-9A40-AA5B04ED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6A91-6BE7-463C-9EEF-A63B7F084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29F0-6516-4BD1-911D-A68E3C08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F0A2-1F8D-425C-A0B3-451B3BFCA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50AC-5DDE-4D5A-BB67-E4CC3B209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3C67-E803-4C47-AA35-0EB21E294C7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FCD15-AE47-4CA4-A568-65B111CE805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.do/imgres?imgurl=http://1.bp.blogspot.com/_4b8aVmnTMEg/TOci0La7p6I/AAAAAAAAJ-Y/KSBisjhSNMA/s1600/A%2BHIPOLITO.jpg&amp;imgrefurl=http://mitamborildigital.blogspot.com/2010_11_19_archive.html&amp;usg=__QP-IxjP0mfWvVFxAm2LBi6P8_Do=&amp;h=249&amp;w=194&amp;sz=19&amp;hl=es&amp;start=5&amp;zoom=1&amp;itbs=1&amp;tbnid=XGwYk6oPUZe-ZM:&amp;tbnh=111&amp;tbnw=86&amp;prev=/images%3Fq%3Dhipolito%2Bmejia%26hl%3Des%26gbv%3D2%26tbs%3Disch: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oogle.com.do/imgres?imgurl=http://www.esacademic.com/pictures/eswiki/72/Hipolito_mejia.jpg&amp;imgrefurl=http://www.esacademic.com/dic.nsf/eswiki/386969&amp;usg=__Oap4lGFUfcAYGeSGKVTOx_6xspI=&amp;h=1316&amp;w=900&amp;sz=244&amp;hl=es&amp;start=5&amp;zoom=1&amp;itbs=1&amp;tbnid=u-FXqy-2zjwMwM:&amp;tbnh=150&amp;tbnw=103&amp;prev=/images%3Fq%3Dhipolito%2Bmejia%2Bjuramentado%2Bcomo%2Bpresidentes%26hl%3Des%26sa%3DG%26gbv%3D2%26tbs%3Disch:1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1557360"/>
            <a:ext cx="7993080" cy="44654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400" spc="-1" strike="noStrike">
                <a:solidFill>
                  <a:srgbClr val="000000"/>
                </a:solidFill>
                <a:latin typeface="Verdana"/>
              </a:rPr>
              <a:t>Liceo Francisco del Rosario Sánchez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3276720" y="2205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Estudi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59280" y="2637000"/>
            <a:ext cx="194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16360" y="2708280"/>
            <a:ext cx="302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Yadira Abr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Gelsylandy Arismen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564000" y="3716280"/>
            <a:ext cx="1657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Asign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Historia</a:t>
            </a:r>
            <a:r>
              <a:rPr b="0" lang="es-DO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67280" y="458136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195640" y="4930920"/>
            <a:ext cx="3960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8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Te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DO" sz="1800" spc="-1" strike="noStrike">
                <a:solidFill>
                  <a:srgbClr val="000000"/>
                </a:solidFill>
                <a:latin typeface="Verdana"/>
              </a:rPr>
              <a:t>El gobierno de Hipólito Mej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Nuevas secretaria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Fueron creadas las secretari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Medio Ambiente y recursos naturales: responsables esta de coordinar las políticas de protección al medio ambiente y los recursos naturale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Secretaria de cultur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Se hizo responsable de construir la política cultural del paí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Secretaria de la juventud: esta conducía programas y políticas dirigidos hacia la juventud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Energía eléctrica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déficit de energía se mantuvo. No obstante. El gobierno exigía la paga de grandes sumas de dineros a las empresa generadora de energía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Crisis bancaria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n el 2003 la Republica Dominicana fue afectada por la crisis de tres bancos esto fueron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Baninter.: esto trajo como consecuencia la perdida de miles de millones de pes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Bancredito: el cual tuvo en perdida un costo superior a veintitrés mil millones  de pesos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Cont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Mercantil: este fracaso a contado hasta el momento 6.500 millones de pesos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Protesta social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n diferentes fechas durantes los cuatro años del gobierno perredeísta se produjeron protesta sociales, demandado que el gobierno cambiara su política económica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La  huelga del 11 Noviemb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De todas la protesta esta fue la más agresiva la cual arrojo siete muerto, decena de heridos, y cientos de apres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Contó con el apoyo de los grupos sindicales, la iglesia, organizaciones populares estudiantiles y choferiles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400" spc="-1" strike="noStrike">
                <a:solidFill>
                  <a:srgbClr val="000000"/>
                </a:solidFill>
                <a:latin typeface="Verdana"/>
              </a:rPr>
              <a:t>Las crisis de los partidos politicos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os tres grandes partidos mayoritarios enfrentaban grandes crisis pues sus lideres principales habían muerto y no lograban conciliar entre ell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Cont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PRD se encontraba ante una división inminente pues Hipólito buscaba reelegirse y Hatuey de Camps no estaba de acuerdo. Lo que trajo como consecuencia la división del PRD y la creación del partido (PRSC). Comandado por Hatuey Camps.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Las elecciones del 200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A pesar de las fuerte imposiciones en favor de la reelección Hipólito Mejía  logro modificar la constitución, introduciendo la siguientes modificación en el articulo 49 de la misma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4000" spc="-1" strike="noStrike">
                <a:solidFill>
                  <a:srgbClr val="000000"/>
                </a:solidFill>
                <a:latin typeface="Verdana"/>
              </a:rPr>
              <a:t>Gobierno de  Hipólito Mejía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6920" y="3428640"/>
            <a:ext cx="64008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800" spc="-1" strike="noStrike">
                <a:solidFill>
                  <a:srgbClr val="000000"/>
                </a:solidFill>
                <a:latin typeface="Verdana"/>
              </a:rPr>
              <a:t>Este se inicia en el año 2000 con una victoria arroyante de 1,432.548 votos frente 785,526 voto que obtuvo el PLD con Danilo Medina a la cabez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1916280"/>
            <a:ext cx="1727280" cy="180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r>
              <a:rPr b="0" lang="es-DO" sz="3400" spc="-1" strike="noStrike">
                <a:solidFill>
                  <a:srgbClr val="000000"/>
                </a:solidFill>
                <a:latin typeface="Verdana"/>
              </a:rPr>
              <a:t>consecuencia de las elecciones 2004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39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16 de mayo del 2004 fueron a las elecciones por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PRD : Hipólito Mejía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PLD:  Leonel Fernández </a:t>
            </a:r>
            <a:br>
              <a:rPr sz="3000"/>
            </a:b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PRSC: Eduardo Estrell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Las eleccione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Hipólito mejía obtuvo una derrota abrumante por el candidato del PLD Leonel Fernández Actuar presidente de la republica por dos periodos presidencial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0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animClr clrSpc="rgb">
                                      <p:cBhvr>
                                        <p:cTn id="441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  <p:set>
                                      <p:cBhvr>
                                        <p:cTn id="442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443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4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445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2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2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2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Procesos  de su mandato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2417760" y="1697040"/>
            <a:ext cx="4240080" cy="4240080"/>
            <a:chOff x="2417760" y="1697040"/>
            <a:chExt cx="4240080" cy="4240080"/>
          </a:xfrm>
        </p:grpSpPr>
        <p:sp>
          <p:nvSpPr>
            <p:cNvPr id="98" name="_s3096"/>
            <p:cNvSpPr/>
            <p:nvPr/>
          </p:nvSpPr>
          <p:spPr>
            <a:xfrm flipH="1" flipV="1">
              <a:off x="3784320" y="3065400"/>
              <a:ext cx="376200" cy="37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3095"/>
            <p:cNvSpPr/>
            <p:nvPr/>
          </p:nvSpPr>
          <p:spPr>
            <a:xfrm>
              <a:off x="2882880" y="2163600"/>
              <a:ext cx="1058760" cy="105912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Las eleccion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Del 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3094"/>
            <p:cNvSpPr/>
            <p:nvPr/>
          </p:nvSpPr>
          <p:spPr>
            <a:xfrm flipH="1">
              <a:off x="3473280" y="3816360"/>
              <a:ext cx="53352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3093"/>
            <p:cNvSpPr/>
            <p:nvPr/>
          </p:nvSpPr>
          <p:spPr>
            <a:xfrm>
              <a:off x="2417760" y="328788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Las crisis  d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Los partid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Político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3092"/>
            <p:cNvSpPr/>
            <p:nvPr/>
          </p:nvSpPr>
          <p:spPr>
            <a:xfrm flipH="1">
              <a:off x="3784320" y="4191120"/>
              <a:ext cx="377640" cy="37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3091"/>
            <p:cNvSpPr/>
            <p:nvPr/>
          </p:nvSpPr>
          <p:spPr>
            <a:xfrm>
              <a:off x="2882880" y="441180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Protest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Social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3090"/>
            <p:cNvSpPr/>
            <p:nvPr/>
          </p:nvSpPr>
          <p:spPr>
            <a:xfrm>
              <a:off x="4535640" y="4344840"/>
              <a:ext cx="144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3089"/>
            <p:cNvSpPr/>
            <p:nvPr/>
          </p:nvSpPr>
          <p:spPr>
            <a:xfrm>
              <a:off x="4006800" y="487836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Crisi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banc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3088"/>
            <p:cNvSpPr/>
            <p:nvPr/>
          </p:nvSpPr>
          <p:spPr>
            <a:xfrm>
              <a:off x="4910040" y="4189320"/>
              <a:ext cx="376200" cy="37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3087"/>
            <p:cNvSpPr/>
            <p:nvPr/>
          </p:nvSpPr>
          <p:spPr>
            <a:xfrm>
              <a:off x="5132520" y="441324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Energí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eléctri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3086"/>
            <p:cNvSpPr/>
            <p:nvPr/>
          </p:nvSpPr>
          <p:spPr>
            <a:xfrm>
              <a:off x="5064120" y="3816360"/>
              <a:ext cx="533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3085"/>
            <p:cNvSpPr/>
            <p:nvPr/>
          </p:nvSpPr>
          <p:spPr>
            <a:xfrm>
              <a:off x="5599080" y="328788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Nuev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secretari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3084"/>
            <p:cNvSpPr/>
            <p:nvPr/>
          </p:nvSpPr>
          <p:spPr>
            <a:xfrm flipV="1">
              <a:off x="4908600" y="3065400"/>
              <a:ext cx="377640" cy="37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3083"/>
            <p:cNvSpPr/>
            <p:nvPr/>
          </p:nvSpPr>
          <p:spPr>
            <a:xfrm>
              <a:off x="5132520" y="216216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Medid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Económic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Social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3082"/>
            <p:cNvSpPr/>
            <p:nvPr/>
          </p:nvSpPr>
          <p:spPr>
            <a:xfrm flipV="1">
              <a:off x="4535640" y="2754360"/>
              <a:ext cx="0" cy="534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_s3081"/>
            <p:cNvSpPr/>
            <p:nvPr/>
          </p:nvSpPr>
          <p:spPr>
            <a:xfrm>
              <a:off x="4006800" y="169704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La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Elecc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Del 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_s3080"/>
            <p:cNvSpPr/>
            <p:nvPr/>
          </p:nvSpPr>
          <p:spPr>
            <a:xfrm>
              <a:off x="4006800" y="3289320"/>
              <a:ext cx="1058760" cy="1058760"/>
            </a:xfrm>
            <a:prstGeom prst="ellipse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Hipóli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Mejía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DO" sz="1200" spc="-1" strike="noStrike">
                  <a:solidFill>
                    <a:srgbClr val="000000"/>
                  </a:solidFill>
                  <a:latin typeface="Arial"/>
                </a:rPr>
                <a:t>President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Elecciones del 2000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El PRD en año 2000  presento a la candidatura de la presidencia al ingeniero Hipólito Mejía y a la doctora Milagros Ortiz Bosch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2600" spc="-1" strike="noStrike">
                <a:solidFill>
                  <a:srgbClr val="000000"/>
                </a:solidFill>
                <a:latin typeface="Verdana"/>
              </a:rPr>
              <a:t>Aunque no sacaron el 50% mas uno que establecía la constitución el PLD no encontró los aliados necesarios y no tuvo otra opción que reconocer la victoria del PRD.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Las medidas económica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Desde que  Hipólito Mejía asumió el poder implanto una seri de medidas económicas a favor de gobierno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s cuales no se diferenciaban mucho de la del PLD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Las medidas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establecimiento de un anticipo de 1.5%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Sobre las ventajas brutal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Un impuesto electivo a las bebidas y a los cigarrillo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aumento del ITBIS de 8 a un 12 % y un 6% a la publicidad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Cont.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flotación de los combustible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l aumento de la electric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Amplio los beneficios en educació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Como aumento del desayuno escolar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Becas para los maestro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Desarrollo un sistema de asistencia medica en los centros educativos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Cont.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entrega   de 300 pesos a las madres más desfavorecid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n la salud se vacunaron a cientos de personas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Se mejoro la Infra estructura hospitalarias y los servicios ofreci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800" spc="-1" strike="noStrike">
                <a:solidFill>
                  <a:srgbClr val="000000"/>
                </a:solidFill>
                <a:latin typeface="Verdana"/>
              </a:rPr>
              <a:t>Cont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Creo un fondo 40 millones mensuales para programa de micros empresas familiares.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En la agricultura apoyo para siembra de ciclo cort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3000" spc="-1" strike="noStrike">
                <a:solidFill>
                  <a:srgbClr val="000000"/>
                </a:solidFill>
                <a:latin typeface="Verdana"/>
              </a:rPr>
              <a:t>La creación de 700 nuevos mercados de productores de Inespr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21:20:29Z</dcterms:created>
  <dc:creator>Vista_UE v.1.2</dc:creator>
  <dc:description/>
  <dc:language>en-US</dc:language>
  <cp:lastModifiedBy>Vista_UE v.1.2</cp:lastModifiedBy>
  <dcterms:modified xsi:type="dcterms:W3CDTF">2010-12-10T00:27:55Z</dcterms:modified>
  <cp:revision>6</cp:revision>
  <dc:subject/>
  <dc:title>Gobierno de  Hipólito Mejía </dc:title>
</cp:coreProperties>
</file>